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7.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111C7A-9A56-4C9C-8BD6-79800DEE2D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2AB1C1-C84F-454D-B97B-9F7CF7B868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77CCF8-C755-405D-9A32-689ADA0042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26C60C-3C4C-4C29-9491-108016B189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03B87A-5F0C-41EE-860A-3E4EC147A4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8985EB-4FBF-4216-9456-E2D931107A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3F1898-6B72-4112-AF20-7CF17EB1D7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CDF53F-81C4-4A52-A0C4-C2324112A7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0C3470-0497-40C6-B2DC-7CAEE01EFF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AD3449-287B-47E0-B16E-2B634C376A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0064B7-0850-4558-93FF-3F36220BC5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AC7E36-61FD-4B45-AB34-419F2C78D7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7C9415-18B1-433E-8BF7-FAC0AC1632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7E094F-8A47-498C-BF58-602570005D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52B285-4743-4153-8093-A76CA37971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459D7B-BC76-4202-9972-D6D2ABDE9E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E84C54-923E-43CA-B790-4EAF8E739D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4E37752-784A-4910-9685-C8002B3F44F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D38AE5-F393-483A-8C39-15459129B7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54E8AD-C859-4CFB-AE02-D2872DFC12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EE16C9-435C-494A-939A-01B64C841A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90D422-9933-48BD-843F-7C3D0BBB7F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3D0FD0-7F7A-41C6-B40E-3902FE02B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DD1B15-448D-445C-9911-3276D02B8E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694196-F417-4185-A171-D0A501A05B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610961-54E4-4196-8CF1-D8A1DDAFC0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F7CAE2-A859-483D-90F9-2FFDAD518E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7A153D-ADFE-406E-B1D1-27AE389F36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40DF9A6-60A2-438E-8CF3-B185B2500C2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6E8E525-049F-4F5F-A839-D7D4D04DEA9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6737D48-EE63-462B-95E3-D466B5E3AD2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E2C10D-B035-4EE2-B0E0-B01CD4EE7B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514AB9-4AA9-4D35-B624-DA2836C1B1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BD9C00-55D1-467E-95EF-A65FA18240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DACDD8-2FCF-4DB7-9CB4-8299585B0C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CA3B47-6FB6-4AB3-8EEC-118B8D0A3E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CEA29A-4F7F-4CF5-9E8D-A24C12921F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56B465-1B3B-4EE4-8399-783320B5C2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EFB758-2134-4C60-822F-53A17E52D7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C164DB-75D1-4529-9D59-4AF944BE09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4879EE-D5DD-4AE8-A7C7-B499756B39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2B78A66-3E0C-4085-ADE5-888A67E75BE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E363352-99B3-41B6-95BE-7D65219618C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C8A56F0-A027-48A8-BF0E-E518D87369C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B30202-B6BD-41C9-A313-477C9433C6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3AB47D-FB60-46D2-873C-F882216D86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61B1D5-875E-4201-BDBB-FDCAFB88F8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C7CDB3-FA2C-4A90-951E-F384D45695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47EDC0-B424-4C52-8898-ED818918A6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90364B-23C0-4BC3-995B-1C4E7124BC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958756-A05D-41C6-9CF8-CC3117CBBE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2B64E6-7869-4492-8260-D668DAEF7B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CECF3B-19C0-4FEF-98B4-82D4B4DCB5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064CC7-03B1-4152-A361-D4D118B6E0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15B6002-843A-4E56-85F0-698340C8D9B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660A5E-1912-4DA0-83F5-CA4FA92B65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F226356-BC25-419C-BB1E-CB8F61319AD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61E0A60-7CA4-4BF0-AB96-03CC67F337E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E236051-9DA0-4DC3-B271-13DC382576A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3D2E65-32D0-4014-8969-05447B53FF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A44876-00EB-49A8-8A78-71C544F516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5C58C49-2AD9-4300-B57D-3EC212D460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06C655-3E69-4A1E-BB96-7AB6081079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9CFA41-2539-4C90-BBCF-7D2ECB8E24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29B13E-85D5-43DE-9B3B-C6B35A7D08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352D14-EC52-4012-A237-8AEDBF4349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B13AE-20A5-45EB-A2E6-00EFE799A5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4A1521-281E-4417-AE81-E9B3EA45C6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0ED3B98-8092-414F-9E00-5D49FC1123D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CEE6276-4781-40CB-B2D6-83DFFFD6E67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D9EC138-9E64-4D3E-AFBD-580268B914F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2C4797-44E0-47D1-A637-7A7229D717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0B58CC9-0414-4970-8411-D6382B088B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508B91-D83D-41BE-B410-A243A5B089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BE6187-0E3A-4D44-8BFC-F0DFC70AA1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05659E-213C-4D74-B3C4-BB08B898F9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B5687B-8006-40BC-809E-1A859B8201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7D403-B5AB-4E9F-811D-D1C1696ED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7C6A9C-790A-4E3C-82E4-3D3080AA00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F83791-6C70-41D1-AD57-F11AACC66F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FF281D-FE50-46C9-8230-C7F04484DF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D1774A2-4EAF-4263-B656-771FC560CEC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D5E5608-33F5-4FB2-8EE7-1AFD4E2CC65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7828F23-C801-43A0-B013-91463CA55AF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6D38EFA-3524-4C85-8BDA-39E0A609176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EAD412-D984-41BA-B1FB-E1EB3D91684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6E037D1-1D0C-4C32-950C-9E2E7221D9F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56BD5AD-2E6A-466A-8B1A-C981D583FE1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C6C79-7031-458B-9B4F-11A073D07A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65D902D-4CE3-4325-A1C0-68E5E380C3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24930F-44F0-471E-81BB-600516E98F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AB9011-BAC1-4661-B8A7-C6E53E9905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2C7773-302F-4953-8173-2240F1C64C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94C8A0-20BA-42E4-843B-0EA2FA00FE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855A160-EC45-476D-BACF-313A0A3D30F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F1A080E-4759-4CBF-92A5-9D6922CA1386}"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B3882-F4F5-41A2-ACAB-FF586F42565C}"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9"/>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6"/>
            <p:cNvSpPr/>
            <p:nvPr/>
          </p:nvSpPr>
          <p:spPr>
            <a:xfrm>
              <a:off x="1693440" y="4952880"/>
              <a:ext cx="7444440" cy="48600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7"/>
            <p:cNvSpPr/>
            <p:nvPr/>
          </p:nvSpPr>
          <p:spPr>
            <a:xfrm>
              <a:off x="45360" y="5236200"/>
              <a:ext cx="9092880" cy="786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Freeform 10"/>
            <p:cNvGrpSpPr/>
            <p:nvPr/>
          </p:nvGrpSpPr>
          <p:grpSpPr>
            <a:xfrm>
              <a:off x="2520" y="4992120"/>
              <a:ext cx="9141480" cy="1872360"/>
              <a:chOff x="2520" y="4992120"/>
              <a:chExt cx="9141480" cy="1872360"/>
            </a:xfrm>
          </p:grpSpPr>
          <p:pic>
            <p:nvPicPr>
              <p:cNvPr id="52" name="Freeform 10"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11"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D850E-AD22-4DBD-8DAB-BD3FB52AC139}"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6"/>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7"/>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77881-EFEF-4F74-A5C3-AB11A642DFAB}" type="slidenum">
              <a:rPr b="0" lang="en-U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B6D3F-EB77-4C34-8ED2-981938044A8A}" type="slidenum">
              <a:rPr b="0" lang="en-U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D8C9A-F9CE-429A-A11C-8B6C588ABF05}"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04589-A81C-4BB7-AF48-18DD8E27830A}" type="slidenum">
              <a:rPr b="0" lang="en-U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080CB-9891-4ACC-A75B-579E676AEF46}"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7"/>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8"/>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3" name="Right Triangle 9"/>
          <p:cNvGrpSpPr/>
          <p:nvPr/>
        </p:nvGrpSpPr>
        <p:grpSpPr>
          <a:xfrm>
            <a:off x="-12600" y="5784840"/>
            <a:ext cx="3414600" cy="1092240"/>
            <a:chOff x="-12600" y="5784840"/>
            <a:chExt cx="3414600" cy="1092240"/>
          </a:xfrm>
        </p:grpSpPr>
        <p:pic>
          <p:nvPicPr>
            <p:cNvPr id="324" name="Right Triangle 9"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0" descr=""/>
          <p:cNvPicPr/>
          <p:nvPr/>
        </p:nvPicPr>
        <p:blipFill>
          <a:blip r:embed="rId4"/>
          <a:stretch/>
        </p:blipFill>
        <p:spPr>
          <a:xfrm>
            <a:off x="-19080" y="5772240"/>
            <a:ext cx="3421080" cy="1109520"/>
          </a:xfrm>
          <a:prstGeom prst="rect">
            <a:avLst/>
          </a:prstGeom>
          <a:ln w="0">
            <a:noFill/>
          </a:ln>
        </p:spPr>
      </p:pic>
      <p:sp>
        <p:nvSpPr>
          <p:cNvPr id="327" name="Chevron 11"/>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12"/>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A549D-A954-46A5-BE27-317ACD3E96B1}" type="slidenum">
              <a:rPr b="0" lang="en-U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Title 1" descr=""/>
          <p:cNvPicPr/>
          <p:nvPr/>
        </p:nvPicPr>
        <p:blipFill>
          <a:blip r:embed="rId1"/>
          <a:stretch/>
        </p:blipFill>
        <p:spPr>
          <a:xfrm>
            <a:off x="682560" y="1749600"/>
            <a:ext cx="8089920" cy="1841400"/>
          </a:xfrm>
          <a:prstGeom prst="rect">
            <a:avLst/>
          </a:prstGeom>
          <a:ln w="0">
            <a:noFill/>
          </a:ln>
        </p:spPr>
      </p:pic>
      <p:sp>
        <p:nvSpPr>
          <p:cNvPr id="371"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700" spc="-1" strike="noStrike">
                <a:solidFill>
                  <a:srgbClr val="464646"/>
                </a:solidFill>
                <a:latin typeface="Lucida Sans Unicode"/>
              </a:rPr>
              <a:t>ICAD3218A </a:t>
            </a:r>
            <a:r>
              <a:rPr b="1" lang="en-US" sz="2700" spc="-1" strike="noStrike">
                <a:solidFill>
                  <a:srgbClr val="464646"/>
                </a:solidFill>
                <a:latin typeface="Lucida Sans Unicode"/>
              </a:rPr>
              <a:t>Create User Documentation</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p:nvPr>
        </p:nvSpPr>
        <p:spPr>
          <a:xfrm>
            <a:off x="457200" y="333360"/>
            <a:ext cx="8229600" cy="5673600"/>
          </a:xfrm>
          <a:prstGeom prst="rect">
            <a:avLst/>
          </a:prstGeom>
          <a:noFill/>
          <a:ln w="0">
            <a:noFill/>
          </a:ln>
        </p:spPr>
        <p:txBody>
          <a:bodyPr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Some of the software tools used to produce online documentation include:</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Frontpag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Notepa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Microsoft Word</a:t>
            </a: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Different forms of documentation are more suitable than others for the level of the intended  user. For example, the forms of documentation most suitable for a novice user would be a Printed handbook</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p:nvPr>
        </p:nvSpPr>
        <p:spPr>
          <a:xfrm>
            <a:off x="457200" y="404640"/>
            <a:ext cx="8229600" cy="56023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The standards used to create user documentation include Industry standards and/or organisational policies </a:t>
            </a: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When creating user documentation consider  the users requirements. Computer literacy , Experience with a system or application and Existing work procedures</a:t>
            </a: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When ‘sign of’ is required, it involves each of the key stakeholders reviewing and approving the documentation. </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457200" y="691920"/>
            <a:ext cx="8229600" cy="53146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Online documentation would be considered if a user requires documentation which is convenient, accessible (to many people worldwide), can contain links to other related documents and is easy to maintain and update. </a:t>
            </a: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Types of on-line documentation include WebPages (HTML), PDF (Portable Document Format), user forums, FAQ (frequently Asked Questions) and Online Help Files.</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p:nvPr>
        </p:nvSpPr>
        <p:spPr>
          <a:xfrm>
            <a:off x="457200" y="549360"/>
            <a:ext cx="8229600" cy="54576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Lucida Sans Unicode"/>
              </a:rPr>
              <a:t>The 3 levels of users</a:t>
            </a:r>
            <a:r>
              <a:rPr b="1" lang="en-AU" sz="2300" spc="-1" strike="noStrike">
                <a:solidFill>
                  <a:srgbClr val="000000"/>
                </a:solidFill>
                <a:latin typeface="Lucida Sans Unicode"/>
              </a:rPr>
              <a:t> </a:t>
            </a:r>
            <a:r>
              <a:rPr b="0" lang="en-AU" sz="2300" spc="-1" strike="noStrike">
                <a:solidFill>
                  <a:srgbClr val="000000"/>
                </a:solidFill>
                <a:latin typeface="Lucida Sans Unicode"/>
              </a:rPr>
              <a:t>that the publishing world generally recognises novice, intermediate and advanced users.</a:t>
            </a:r>
            <a:endParaRPr b="0" lang="en-US" sz="23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u="sng">
                <a:solidFill>
                  <a:srgbClr val="000000"/>
                </a:solidFill>
                <a:uFillTx/>
                <a:latin typeface="Lucida Sans Unicode"/>
              </a:rPr>
              <a:t>Version control</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Lucida Sans Unicode"/>
              </a:rPr>
              <a:t>Version control is used to ensure that changes are not lost and versions are not confused. This will often be outlined in the user documentation policy. </a:t>
            </a:r>
            <a:endParaRPr b="0" lang="en-US" sz="23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Lucida Sans Unicode"/>
              </a:rPr>
              <a:t>Either way, it is critical to establish how you are going to name and number the various versions of your documents and to communicate that process to other writers and reviewers so that everyone is on the same page.</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p:nvPr>
        </p:nvSpPr>
        <p:spPr>
          <a:xfrm>
            <a:off x="457200" y="259920"/>
            <a:ext cx="8229600" cy="5746680"/>
          </a:xfrm>
          <a:prstGeom prst="rect">
            <a:avLst/>
          </a:prstGeom>
          <a:noFill/>
          <a:ln w="0">
            <a:noFill/>
          </a:ln>
        </p:spPr>
        <p:txBody>
          <a:bodyPr anchor="t">
            <a:normAutofit/>
          </a:bodyPr>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There are many principles of document design which should be followed when designing user documentation. These include</a:t>
            </a:r>
            <a:endParaRPr b="0" lang="en-US" sz="2700" spc="-1" strike="noStrike">
              <a:solidFill>
                <a:srgbClr val="000000"/>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Appropriate medium to the task</a:t>
            </a:r>
            <a:endParaRPr b="0" lang="en-US" sz="2700" spc="-1" strike="noStrike">
              <a:solidFill>
                <a:srgbClr val="000000"/>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Give a brief introduction where you state the purpose and objectives of the documentation.</a:t>
            </a:r>
            <a:endParaRPr b="0" lang="en-US" sz="27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Include a table of contents or index.</a:t>
            </a:r>
            <a:endParaRPr b="0" lang="en-US" sz="27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When writing, keep the users’ needs in mind, ie put yourself in the users’ place.</a:t>
            </a:r>
            <a:endParaRPr b="0" lang="en-US" sz="2700" spc="-1" strike="noStrike">
              <a:solidFill>
                <a:srgbClr val="000000"/>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457200" y="333360"/>
            <a:ext cx="8229600" cy="567360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Ensure the content is accurate.</a:t>
            </a:r>
            <a:endParaRPr b="0" lang="en-US" sz="27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Make clear sections for different types of features/information.</a:t>
            </a:r>
            <a:endParaRPr b="0" lang="en-US" sz="27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Break the content down into easy-to-digest ‘chunks’, eg using paragraphs and sub headings, or multiple screens.</a:t>
            </a:r>
            <a:endParaRPr b="0" lang="en-US" sz="2700" spc="-1" strike="noStrike">
              <a:solidFill>
                <a:srgbClr val="000000"/>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Use illustrations, diagrams, charts and/or screen shots where appropriate.</a:t>
            </a:r>
            <a:endParaRPr b="0" lang="en-US" sz="27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State instructions clearly and step-by-step.</a:t>
            </a:r>
            <a:endParaRPr b="0" lang="en-US" sz="2700" spc="-1" strike="noStrike">
              <a:solidFill>
                <a:srgbClr val="000000"/>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p:nvPr>
        </p:nvSpPr>
        <p:spPr>
          <a:xfrm>
            <a:off x="457200" y="333360"/>
            <a:ext cx="8229600" cy="56736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Use plain English and avoid jargon.</a:t>
            </a: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Use technical terms only where necessary.</a:t>
            </a: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Include a troubleshooting or help section.</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Include a glossary of the technical terms you have used.</a:t>
            </a: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Make the document structure as simple as possible and logical by providing cues to locate information.</a:t>
            </a: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p:nvPr>
        </p:nvSpPr>
        <p:spPr>
          <a:xfrm>
            <a:off x="457200" y="549360"/>
            <a:ext cx="8229600" cy="54576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Ensure good usability, especially for online documentation.</a:t>
            </a: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Cross-reference information, eg use hyperlinks in online documentation.</a:t>
            </a: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Warnings, comments and help should be well-organised and visible.</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Aim for a clean design for text styles and layout that is consistent across all pages.</a:t>
            </a: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p:nvPr>
        </p:nvSpPr>
        <p:spPr>
          <a:xfrm>
            <a:off x="457200" y="333360"/>
            <a:ext cx="8229600" cy="5673600"/>
          </a:xfrm>
          <a:prstGeom prst="rect">
            <a:avLst/>
          </a:prstGeom>
          <a:noFill/>
          <a:ln w="0">
            <a:noFill/>
          </a:ln>
        </p:spPr>
        <p:txBody>
          <a:bodyPr anchor="t">
            <a:normAutofit/>
          </a:bodyPr>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u="sng">
                <a:solidFill>
                  <a:srgbClr val="000000"/>
                </a:solidFill>
                <a:uFillTx/>
                <a:latin typeface="Lucida Sans Unicode"/>
              </a:rPr>
              <a:t>Reviewing Process</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The review process is generally outlined in the organisation’s policy or the project documents. </a:t>
            </a:r>
            <a:endParaRPr b="0" lang="en-US" sz="2700" spc="-1" strike="noStrike">
              <a:solidFill>
                <a:srgbClr val="000000"/>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Reviewing involves checking over the document.</a:t>
            </a:r>
            <a:endParaRPr b="0" lang="en-US" sz="2700" spc="-1" strike="noStrike">
              <a:solidFill>
                <a:srgbClr val="000000"/>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The review process varies from organisation to organisation and project to project. The review process is generally outlined in the organisation’s policy or the project documents.</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p:nvPr>
        </p:nvSpPr>
        <p:spPr>
          <a:xfrm>
            <a:off x="457200" y="404640"/>
            <a:ext cx="8229600" cy="56023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ISO stands for International Standards Organisation</a:t>
            </a:r>
            <a:endParaRPr b="0" lang="en-US" sz="2700" spc="-1" strike="noStrike">
              <a:solidFill>
                <a:srgbClr val="000000"/>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A Quick Reference card is not Online documentation</a:t>
            </a:r>
            <a:endParaRPr b="0" lang="en-US" sz="2700" spc="-1" strike="noStrike">
              <a:solidFill>
                <a:srgbClr val="000000"/>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The Technical writer is responsible for writing the user documentation and submitting it for review.</a:t>
            </a:r>
            <a:endParaRPr b="0" lang="en-US" sz="2700" spc="-1" strike="noStrike">
              <a:solidFill>
                <a:srgbClr val="000000"/>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Web based documentation includes User forums, Frequently asked questions and HTML files</a:t>
            </a:r>
            <a:endParaRPr b="0" lang="en-US" sz="2700" spc="-1" strike="noStrike">
              <a:solidFill>
                <a:srgbClr val="000000"/>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txBox="1"/>
          <p:nvPr/>
        </p:nvSpPr>
        <p:spPr>
          <a:xfrm>
            <a:off x="457200" y="404640"/>
            <a:ext cx="8229600" cy="5602320"/>
          </a:xfrm>
          <a:prstGeom prst="rect">
            <a:avLst/>
          </a:prstGeom>
          <a:noFill/>
          <a:ln w="0">
            <a:noFill/>
          </a:ln>
        </p:spPr>
        <p:txBody>
          <a:bodyPr anchor="t">
            <a:normAutofit fontScale="99000"/>
          </a:bodyPr>
          <a:p>
            <a:pPr marL="361080" indent="-2527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Before starting to create any user documentation ask ‘What is the documentation going to be used for?’. </a:t>
            </a:r>
            <a:endParaRPr b="0" lang="en-US" sz="2700" spc="-1" strike="noStrike">
              <a:solidFill>
                <a:srgbClr val="000000"/>
              </a:solidFill>
              <a:latin typeface="Lucida Sans Unicode"/>
            </a:endParaRPr>
          </a:p>
          <a:p>
            <a:pPr marL="361080" indent="-2527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1080" indent="-2527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When you are satisfied that you have an answer, you can then decide what type of documentation you are going to produce. </a:t>
            </a:r>
            <a:endParaRPr b="0" lang="en-US" sz="2700" spc="-1" strike="noStrike">
              <a:solidFill>
                <a:srgbClr val="000000"/>
              </a:solidFill>
              <a:latin typeface="Lucida Sans Unicode"/>
            </a:endParaRPr>
          </a:p>
          <a:p>
            <a:pPr marL="361080" indent="-2527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1080" indent="-2527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When developing documentation it is important to understand the user’s requirements to know which medium is preferable. In a lot of cases both printed and online forms may be required.</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p:nvPr>
        </p:nvSpPr>
        <p:spPr>
          <a:xfrm>
            <a:off x="457200" y="549360"/>
            <a:ext cx="8229600" cy="5457600"/>
          </a:xfrm>
          <a:prstGeom prst="rect">
            <a:avLst/>
          </a:prstGeom>
          <a:noFill/>
          <a:ln w="0">
            <a:noFill/>
          </a:ln>
        </p:spPr>
        <p:txBody>
          <a:bodyPr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Types</a:t>
            </a:r>
            <a:r>
              <a:rPr b="1" lang="en-AU" sz="2700" spc="-1" strike="noStrike">
                <a:solidFill>
                  <a:srgbClr val="000000"/>
                </a:solidFill>
                <a:latin typeface="Lucida Sans Unicode"/>
              </a:rPr>
              <a:t> </a:t>
            </a:r>
            <a:r>
              <a:rPr b="0" lang="en-AU" sz="2700" spc="-1" strike="noStrike">
                <a:solidFill>
                  <a:srgbClr val="000000"/>
                </a:solidFill>
                <a:latin typeface="Lucida Sans Unicode"/>
              </a:rPr>
              <a:t>of User documentation include</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Instructional material</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Training material</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Policies or procedures document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Reference documentatio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FAQ’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Report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Help resourc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User manual/guid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Self-paced tutorials and Brochures </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p:nvPr>
        </p:nvSpPr>
        <p:spPr>
          <a:xfrm>
            <a:off x="457200" y="404640"/>
            <a:ext cx="8229600" cy="56023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A </a:t>
            </a:r>
            <a:r>
              <a:rPr b="1" lang="en-AU" sz="2700" spc="-1" strike="noStrike">
                <a:solidFill>
                  <a:srgbClr val="000000"/>
                </a:solidFill>
                <a:latin typeface="Lucida Sans Unicode"/>
              </a:rPr>
              <a:t>needs analysis</a:t>
            </a:r>
            <a:r>
              <a:rPr b="0" lang="en-AU" sz="2700" spc="-1" strike="noStrike">
                <a:solidFill>
                  <a:srgbClr val="000000"/>
                </a:solidFill>
                <a:latin typeface="Lucida Sans Unicode"/>
              </a:rPr>
              <a:t> is a process where the needs of the target groups for the documentation are identified and analysed. This analysis helps to make decisions on what the documentation should contain and what format is most suitable </a:t>
            </a: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Once the </a:t>
            </a:r>
            <a:r>
              <a:rPr b="1" lang="en-AU" sz="2700" spc="-1" strike="noStrike">
                <a:solidFill>
                  <a:srgbClr val="000000"/>
                </a:solidFill>
                <a:latin typeface="Lucida Sans Unicode"/>
              </a:rPr>
              <a:t>needs analysis</a:t>
            </a:r>
            <a:r>
              <a:rPr b="0" lang="en-AU" sz="2700" spc="-1" strike="noStrike">
                <a:solidFill>
                  <a:srgbClr val="000000"/>
                </a:solidFill>
                <a:latin typeface="Lucida Sans Unicode"/>
              </a:rPr>
              <a:t> is completed, learn what the intended user requires. Do this by becoming a user so that you become familiar with its features and you are confident in using it.</a:t>
            </a: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p:nvPr>
        </p:nvSpPr>
        <p:spPr>
          <a:xfrm>
            <a:off x="468360" y="404280"/>
            <a:ext cx="8229600" cy="5605560"/>
          </a:xfrm>
          <a:prstGeom prst="rect">
            <a:avLst/>
          </a:prstGeom>
          <a:noFill/>
          <a:ln w="0">
            <a:noFill/>
          </a:ln>
        </p:spPr>
        <p:txBody>
          <a:bodyPr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look at:</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The functionality — how it work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The work processes surrounding its use — how the system works with organisational processes and procedures.</a:t>
            </a: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txBox="1"/>
          <p:nvPr/>
        </p:nvSpPr>
        <p:spPr>
          <a:xfrm>
            <a:off x="457200" y="333360"/>
            <a:ext cx="8229600" cy="5881680"/>
          </a:xfrm>
          <a:prstGeom prst="rect">
            <a:avLst/>
          </a:prstGeom>
          <a:noFill/>
          <a:ln w="0">
            <a:noFill/>
          </a:ln>
        </p:spPr>
        <p:txBody>
          <a:bodyPr anchor="t">
            <a:normAutofit/>
          </a:bodyPr>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u="sng">
                <a:solidFill>
                  <a:srgbClr val="000000"/>
                </a:solidFill>
                <a:uFillTx/>
                <a:latin typeface="Lucida Sans Unicode"/>
              </a:rPr>
              <a:t>Document Blueprint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Provide the information the authors need to produce the documentation.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This occurs in the </a:t>
            </a:r>
            <a:r>
              <a:rPr b="1" lang="en-AU" sz="2700" spc="-1" strike="noStrike">
                <a:solidFill>
                  <a:srgbClr val="000000"/>
                </a:solidFill>
                <a:latin typeface="Lucida Sans Unicode"/>
              </a:rPr>
              <a:t>Planning</a:t>
            </a:r>
            <a:r>
              <a:rPr b="0" lang="en-AU" sz="2700" spc="-1" strike="noStrike">
                <a:solidFill>
                  <a:srgbClr val="000000"/>
                </a:solidFill>
                <a:latin typeface="Lucida Sans Unicode"/>
              </a:rPr>
              <a:t> stage of the standard documentation proces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The individual document specification covers the document’s, Purpose, Audience, Related documents, Media, Production plan (eg. Published internally or externally), Reviewing and testing, Update pla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txBox="1"/>
          <p:nvPr/>
        </p:nvSpPr>
        <p:spPr>
          <a:xfrm>
            <a:off x="457200" y="620280"/>
            <a:ext cx="8229600" cy="50403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Creating a document library blueprint involves identifying all the pieces of documentation and how they are related, and developing a specification for each known as the </a:t>
            </a:r>
            <a:r>
              <a:rPr b="0" i="1" lang="en-AU" sz="2700" spc="-1" strike="noStrike">
                <a:solidFill>
                  <a:srgbClr val="000000"/>
                </a:solidFill>
                <a:latin typeface="Lucida Sans Unicode"/>
              </a:rPr>
              <a:t>document specification.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txBox="1"/>
          <p:nvPr/>
        </p:nvSpPr>
        <p:spPr>
          <a:xfrm>
            <a:off x="468360" y="333360"/>
            <a:ext cx="8229600" cy="4525920"/>
          </a:xfrm>
          <a:prstGeom prst="rect">
            <a:avLst/>
          </a:prstGeom>
          <a:noFill/>
          <a:ln w="0">
            <a:noFill/>
          </a:ln>
        </p:spPr>
        <p:txBody>
          <a:bodyPr anchor="t">
            <a:normAutofit fontScale="94000"/>
          </a:bodyPr>
          <a:p>
            <a:pPr marL="586440" indent="-483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u="sng">
                <a:solidFill>
                  <a:srgbClr val="000000"/>
                </a:solidFill>
                <a:uFillTx/>
                <a:latin typeface="Lucida Sans Unicode"/>
              </a:rPr>
              <a:t>Reviewing Process</a:t>
            </a:r>
            <a:endParaRPr b="0" lang="en-US" sz="2700" spc="-1" strike="noStrike">
              <a:solidFill>
                <a:srgbClr val="000000"/>
              </a:solidFill>
              <a:latin typeface="Lucida Sans Unicode"/>
            </a:endParaRPr>
          </a:p>
          <a:p>
            <a:pPr marL="586440" indent="-4834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The review process is generally outlined in the organisation’s policy or the project documents. </a:t>
            </a:r>
            <a:endParaRPr b="0" lang="en-US" sz="2700" spc="-1" strike="noStrike">
              <a:solidFill>
                <a:srgbClr val="000000"/>
              </a:solidFill>
              <a:latin typeface="Lucida Sans Unicode"/>
            </a:endParaRPr>
          </a:p>
          <a:p>
            <a:pPr marL="586440" indent="-4834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586440" indent="-4834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Reviewing involves checking over the document.</a:t>
            </a:r>
            <a:endParaRPr b="0" lang="en-US" sz="2700" spc="-1" strike="noStrike">
              <a:solidFill>
                <a:srgbClr val="000000"/>
              </a:solidFill>
              <a:latin typeface="Lucida Sans Unicode"/>
            </a:endParaRPr>
          </a:p>
          <a:p>
            <a:pPr marL="586440" indent="-4834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586440" indent="-4834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The review process varies from organisation to organisation and project to project. The review process is generally outlined in the organisation’s policy or the project documents. </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txBox="1"/>
          <p:nvPr/>
        </p:nvSpPr>
        <p:spPr>
          <a:xfrm>
            <a:off x="179280" y="115560"/>
            <a:ext cx="8785440" cy="560556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Consider the following factors when identifying the intended user of your documentation:</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Lucida Sans Unicode"/>
              </a:rPr>
              <a:t>level of computing experience </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Lucida Sans Unicode"/>
              </a:rPr>
              <a:t>experience with the particular system or application </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Lucida Sans Unicode"/>
              </a:rPr>
              <a:t>frequency of use with a particular system or application </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Lucida Sans Unicode"/>
              </a:rPr>
              <a:t>workplace tasks </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Lucida Sans Unicode"/>
              </a:rPr>
              <a:t>work practices and environment </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Lucida Sans Unicode"/>
              </a:rPr>
              <a:t>language skills </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Lucida Sans Unicode"/>
              </a:rPr>
              <a:t>cultural background </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Lucida Sans Unicode"/>
              </a:rPr>
              <a:t>personal characteristics such as aptitude, educational background, age, disability </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Lucida Sans Unicode"/>
              </a:rPr>
              <a:t>level of confidence </a:t>
            </a: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txBox="1"/>
          <p:nvPr/>
        </p:nvSpPr>
        <p:spPr>
          <a:xfrm>
            <a:off x="179280" y="260280"/>
            <a:ext cx="8856720" cy="5749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Types of media for producing</a:t>
            </a:r>
            <a:r>
              <a:rPr b="1" lang="en-AU" sz="4100" spc="-1" strike="noStrike">
                <a:solidFill>
                  <a:srgbClr val="464646"/>
                </a:solidFill>
                <a:latin typeface="Lucida Sans Unicode"/>
              </a:rPr>
              <a:t> </a:t>
            </a:r>
            <a:r>
              <a:rPr b="0" lang="en-AU" sz="2700" spc="-1" strike="noStrike">
                <a:solidFill>
                  <a:srgbClr val="000000"/>
                </a:solidFill>
                <a:latin typeface="Lucida Sans Unicode"/>
              </a:rPr>
              <a:t>documentatio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700" spc="-1" strike="noStrike">
                <a:solidFill>
                  <a:srgbClr val="000000"/>
                </a:solidFill>
                <a:latin typeface="Lucida Sans Unicode"/>
              </a:rPr>
              <a:t>Paper documentation (print medi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700" spc="-1" strike="noStrike">
                <a:solidFill>
                  <a:srgbClr val="000000"/>
                </a:solidFill>
                <a:latin typeface="Lucida Sans Unicode"/>
              </a:rPr>
              <a:t>Static on-line documentatio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700" spc="-1" strike="noStrike">
                <a:solidFill>
                  <a:srgbClr val="000000"/>
                </a:solidFill>
                <a:latin typeface="Lucida Sans Unicode"/>
              </a:rPr>
              <a:t>Dynamic on-line documentatio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A template is a file that contains a standard layout, styles and fonts that are used in the production of the documentation.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Using a template ensures there is a consistent look and feel to all of the user documentation. It saves time.</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6T04:21:05Z</dcterms:created>
  <dc:creator> </dc:creator>
  <dc:description/>
  <dc:language>en-US</dc:language>
  <cp:lastModifiedBy>jo</cp:lastModifiedBy>
  <dcterms:modified xsi:type="dcterms:W3CDTF">2008-08-27T12:31:11Z</dcterms:modified>
  <cp:revision>89</cp:revision>
  <dc:subject/>
  <dc:title>Revision</dc:title>
</cp:coreProperties>
</file>